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explode.wav" ContentType="audio/x-wav"/>
  <Override PartName="/ppt/media/arrow.wav" ContentType="audio/x-wav"/>
  <Override PartName="/ppt/media/push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wind.wav" ContentType="audio/x-wav"/>
  <Override PartName="/ppt/media/chimes.wav" ContentType="audio/x-wav"/>
  <Override PartName="/ppt/media/image4.png" ContentType="image/png"/>
  <Override PartName="/ppt/media/voltage.wav" ContentType="audio/x-wav"/>
  <Override PartName="/ppt/media/image8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F44-DFEE-4828-8F0A-E7D30C46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388-141C-4FD9-9C76-EE74C37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A9D-D229-45D9-BE20-78D61456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927-FA6E-4D17-9D4D-29D25D72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810-70C3-4979-AD8A-59B617EC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743C-A9EF-4E84-AB1D-8FC8A24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CCA4-5803-42AD-8C13-790E1D7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49CC-7F8E-4E85-9A59-62D1E7E5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D4B-4EB4-4826-865C-EE3485F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F102-39C2-435F-A546-6123277D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834-9C29-429A-8AD1-CA9182B4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B27-31E7-40BB-8D7C-7E76D2AF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05E3-5A28-4596-A213-AC0A02C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026D-D5DA-4862-82C1-89BEB01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092B-D560-4029-A5EC-E1F2730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B840-1219-4CB9-B283-0E3D4475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BB18-7998-4E64-9ADD-836F7ED4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D6956-4EA9-4794-B3CD-675D30BF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54BDA-DA5D-44D3-B65C-75FCAF45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5CABC-FF6B-485C-9CB8-2A3D3CDF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AAA99-B1FD-4229-88F6-22187D7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4F53C-422E-467B-9175-3982261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859-A6A0-4198-BFC5-BE47FB3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677D2-F7E5-4357-B56C-36DC553E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0BBBD-4DB6-4CFE-BB72-164D448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19DF9-952B-47A7-AAB5-ACE50B6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26B63-DD19-472E-A249-5F2A009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20833-5C2B-4481-A9BC-7181C3C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3377E-3615-4EC9-8A0E-CD6AFDE6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EDA07-9021-49CD-9E17-5F1776C4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0D79-4ACF-4E9F-815E-886F0D84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3F7D0-28DC-44EC-95CA-8C986A8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F49B-CEF8-48D1-BD3D-A26DE9DB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7DC-6591-41D3-B11A-4AECF45A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23DC-6E95-485A-93E9-E26C13E5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7BE7-51ED-4FCA-8FD4-17ED9722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867B-7289-4DC5-B7EF-91ABEDEB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FB7F-23E5-44CD-BC9C-FD90CEE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F597-6196-44BC-9049-A0E5EA5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7D77-A1C9-4195-AB7E-E7AD975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2293-2C46-483B-A5E7-5BA1E271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C0BE-2E4B-4D2C-A988-1E407ACC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F855-9E24-4299-8824-5E66C1B9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D8467-7046-4E72-9F5A-B30CD8DF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144-DDA9-4276-AC92-C59A956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9982D-6290-4529-AF18-334866A5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FCE1A-CF45-42AA-BF4E-0D2E29B0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CC876-8BFD-4A7D-986C-410CE98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54EAD-662E-47CA-B1D8-578BA01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6E376-6DED-4211-B519-FE14051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B53DC-06D0-49B9-B8B6-203271C6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CD8FA-E75E-40B2-BFC2-437B529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D62F5-327C-4863-BCDA-8D12CBC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D6F70-F42A-4CC1-AE4E-69A601B6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BF117-7837-41FB-A58B-FF0839D6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A84-8846-4D8E-9EE0-E1A91B3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29367-1E3A-4F43-AA49-100580DB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AF326-72B2-44CE-AE64-341E04C4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7D66B-5534-4C3B-A897-248B38A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794A4-1AF1-41DE-B743-97FE455C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F7A4D-FE1C-48D5-8EE2-B955D30E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6325B-7335-4CF7-A403-5DBDC7A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80052-5373-45AB-979D-5E1787B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191B1-4697-431F-82CB-BBC251A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5700C-6601-403B-9CCE-65C989D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A8DC4-94F7-4BE7-987D-72599A9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54D-2565-4645-9C22-2F39D7B2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A154D-90F9-42B2-A39D-5A8469D1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D981E-BD59-4914-BFC7-E61E60E8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BA17B-F2D8-43F3-BE7B-6F44F161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888B7-CF60-444E-AF7E-3E520AFC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39F9B-EDD9-4FCA-BD4B-3538BA85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FFB2F-8204-4AC3-AC51-7FB7FE4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51855-2DFA-42B6-B9BA-D69E6B9D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90487-DD02-4EC1-811F-64A3E1A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1FDC0-F877-4851-B638-388739F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ACC45-DC2A-4013-B5EE-F59B154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B3A-7EA3-4E36-AD3F-2F1A3CF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85CFA-814E-47FA-8462-F31011DC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D7F25-2452-465C-9E03-B745E0A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F5C61-C158-4086-9001-5695ECF1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C9751-A94E-4A52-A136-D8DF2DAF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F76AC-F110-4A4B-B82A-E9E5BFC6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366-C862-4673-A8F5-B6684FF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710D-3744-45BF-BA1A-81B3C28A26B9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Łącznik prosty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Łącznik prosty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Łącznik prosty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Łącznik prosty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Łącznik prosty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C400-9A24-44C4-BF2A-3F520D2773D6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C8D-3AEA-445E-834E-ADFE984B66E1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Łącznik prosty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Łącznik prosty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Łącznik prosty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Łącznik prosty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rostokąt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Łącznik prosty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14A-FFE8-40AE-9E86-9A3A70F4AE20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FBF2-B852-40B2-8CCA-4A60417A352A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Łącznik prosty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Łącznik prosty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Łącznik prosty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rostokąt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Łącznik prosty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8512-3C4C-4DA2-AD30-63E61FC0CDD5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Łącznik prosty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rostokąt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Łącznik prosty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Łącznik prosty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Łącznik prosty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EEB0-8159-47EF-B487-B9AFA053D0C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357200"/>
            <a:ext cx="61722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Comic Sans MS"/>
              </a:rPr>
              <a:t>KONSERWOWANIE    I PRZECHOWYWANIE ŻYWNOŚCI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mic Sans MS"/>
              </a:rPr>
              <a:t>JAK SIĘ ROBI ZAPASY ?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Żywność dłużej nadaje się do zjedzenia dzięki różnym metodom konserwacji. Warto je znać przygotowując domowe przetwory np. dżemy, kompoty lub mrożonki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Obraz 3" descr="jam.JPG"/>
          <p:cNvPicPr/>
          <p:nvPr/>
        </p:nvPicPr>
        <p:blipFill>
          <a:blip r:embed="rId1"/>
          <a:stretch/>
        </p:blipFill>
        <p:spPr>
          <a:xfrm>
            <a:off x="571680" y="3857760"/>
            <a:ext cx="2050920" cy="17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5" name="Obraz 4" descr="Kompot.jpg"/>
          <p:cNvPicPr/>
          <p:nvPr/>
        </p:nvPicPr>
        <p:blipFill>
          <a:blip r:embed="rId2"/>
          <a:stretch/>
        </p:blipFill>
        <p:spPr>
          <a:xfrm>
            <a:off x="3000240" y="3857760"/>
            <a:ext cx="20005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6" name="Obraz 5" descr="Mrożonki.jpg"/>
          <p:cNvPicPr/>
          <p:nvPr/>
        </p:nvPicPr>
        <p:blipFill>
          <a:blip r:embed="rId3"/>
          <a:stretch/>
        </p:blipFill>
        <p:spPr>
          <a:xfrm>
            <a:off x="5429160" y="3857760"/>
            <a:ext cx="2000520" cy="17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5000">
    <p:dissolve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METODY KONSERWACJI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135684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asteryzacja polega na ogrzewaniu materiału do temperatur nie przekraczających 100°C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terylizacja to ogrzanie produktu do temperatury powyżej 100°C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uszenie polega na usunięciu wody w produkcie przez jej wyparowani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Mrożenie</a:t>
            </a:r>
            <a:r>
              <a:rPr b="1" lang="pl-P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jest to jedna z metod utrwalania żywności, gdzie doprowadza się produkt do temperatury poniżej -12°C; mogą to być produkty gotowe lub półprodukt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Obraz 3" descr="pas.jpg"/>
          <p:cNvPicPr/>
          <p:nvPr/>
        </p:nvPicPr>
        <p:blipFill>
          <a:blip r:embed="rId1"/>
          <a:stretch/>
        </p:blipFill>
        <p:spPr>
          <a:xfrm>
            <a:off x="884160" y="4511520"/>
            <a:ext cx="1596960" cy="1895760"/>
          </a:xfrm>
          <a:prstGeom prst="rect">
            <a:avLst/>
          </a:prstGeom>
          <a:ln w="0">
            <a:noFill/>
          </a:ln>
        </p:spPr>
      </p:pic>
      <p:pic>
        <p:nvPicPr>
          <p:cNvPr id="360" name="Obraz 4" descr="suszenie.jpg"/>
          <p:cNvPicPr/>
          <p:nvPr/>
        </p:nvPicPr>
        <p:blipFill>
          <a:blip r:embed="rId2"/>
          <a:stretch/>
        </p:blipFill>
        <p:spPr>
          <a:xfrm>
            <a:off x="3114720" y="4761000"/>
            <a:ext cx="1658880" cy="2852640"/>
          </a:xfrm>
          <a:prstGeom prst="rect">
            <a:avLst/>
          </a:prstGeom>
          <a:ln w="0">
            <a:noFill/>
          </a:ln>
        </p:spPr>
      </p:pic>
      <p:pic>
        <p:nvPicPr>
          <p:cNvPr id="361" name="Obraz 5" descr="mro.jpg"/>
          <p:cNvPicPr/>
          <p:nvPr/>
        </p:nvPicPr>
        <p:blipFill>
          <a:blip r:embed="rId3"/>
          <a:stretch/>
        </p:blipFill>
        <p:spPr>
          <a:xfrm>
            <a:off x="5499000" y="4645080"/>
            <a:ext cx="2133720" cy="16333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4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METODY KONSERWACJI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Kiszenie -  wykorzystanie działania bakterii fermentacji mlekowe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olenie to dodanie soli kuchennej do produkt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łodzenie- dodanie do produktu cukr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Marynowanie – konserwowanie produktów spożywczych za pomocą octu. </a:t>
            </a:r>
            <a:r>
              <a:rPr b="0" i="1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Obraz 3" descr="jagf.jpg"/>
          <p:cNvPicPr/>
          <p:nvPr/>
        </p:nvPicPr>
        <p:blipFill>
          <a:blip r:embed="rId1"/>
          <a:stretch/>
        </p:blipFill>
        <p:spPr>
          <a:xfrm>
            <a:off x="407880" y="4286160"/>
            <a:ext cx="2560680" cy="3797280"/>
          </a:xfrm>
          <a:prstGeom prst="rect">
            <a:avLst/>
          </a:prstGeom>
          <a:ln w="0">
            <a:noFill/>
          </a:ln>
        </p:spPr>
      </p:pic>
      <p:pic>
        <p:nvPicPr>
          <p:cNvPr id="365" name="Obraz 4" descr="sol.jpg"/>
          <p:cNvPicPr/>
          <p:nvPr/>
        </p:nvPicPr>
        <p:blipFill>
          <a:blip r:embed="rId2"/>
          <a:stretch/>
        </p:blipFill>
        <p:spPr>
          <a:xfrm>
            <a:off x="3214800" y="4572000"/>
            <a:ext cx="203364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6" name="Obraz 5" descr="kiszenie.jpg"/>
          <p:cNvPicPr/>
          <p:nvPr/>
        </p:nvPicPr>
        <p:blipFill>
          <a:blip r:embed="rId3"/>
          <a:stretch/>
        </p:blipFill>
        <p:spPr>
          <a:xfrm>
            <a:off x="5668920" y="4511520"/>
            <a:ext cx="199404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  <p:sndAc>
      <p:stSnd>
        <p:snd r:embed="rId4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PRZECHOWYWANIE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W lodówce w każdym miejscu jest różna temperatura. Uwzględniając to, możesz przechowywać żywność w optymalnych warunkach. Warto również wykorzystywać plastikowe pojemniki, pergamin, folię aluminiową i woreczki foliowe do przechowywania żywności. Zapewniają higienę i ułatwiają przechowywani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LODÓWKA – GDZIE CO POŁOŻYĆ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4000" y="1125360"/>
            <a:ext cx="403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Górna półka – temperatura 8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Przechowujemy tam dżemy, mleko, jogurty („dobre” bakterie rozwijają się w wyższej temperaturze). Na niższych półkach zepsują się szybciej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Środkowa półka – temperatura 4–5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To miejsce dla produktów o krótkiej trwałości: twarogi, masło, śmietana, pokrojona wędlina. To jest również właściwe miejsce na szczelnie zakryte naczynia z zimnymi potrawami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olna półka – temperatura 2º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Jest najbardziej zimnym miejscem, doskonałym dla świeżego mięsa i ryb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olne szuflady – temperatura około 10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Miejsce na warzywa i owoce. Panuje tu spora wilgotność (jak w piwnicy). Sałatę i szczypiorek można przechowywać tu nawet kilka dni. Można tu wkładać żółte sery w szczelnych pojemnikach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Boczne półki – temperatura 10–15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Idealne dla chrzanu, musztardy, soków, keczupu, oleju roślinnego, jaje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Symbol zastępczy zawartości 4" descr="2479054lod.jpg"/>
          <p:cNvPicPr/>
          <p:nvPr/>
        </p:nvPicPr>
        <p:blipFill>
          <a:blip r:embed="rId1"/>
          <a:stretch/>
        </p:blipFill>
        <p:spPr>
          <a:xfrm>
            <a:off x="4572000" y="1484280"/>
            <a:ext cx="4159080" cy="493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75f6d"/>
                </a:solidFill>
                <a:latin typeface="Comic Sans MS"/>
              </a:rPr>
              <a:t>ŹRÓDŁA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Jastrzębowski, Sławomir.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Encyklopedia Zdrowych Posiłków.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Murator: Warszawa, 201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Łabecki, Lech.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Zeszyt Ćwiczeń. Technika.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owa Era: Warszawa, 2007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www.rossnet.pl/Artykul/Sztuka-przechowywania-zywnios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 thruBlk="true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12:54:04Z</dcterms:created>
  <dc:creator>Dorota</dc:creator>
  <dc:description/>
  <dc:language>en-US</dc:language>
  <cp:lastModifiedBy>Dorota</cp:lastModifiedBy>
  <dcterms:modified xsi:type="dcterms:W3CDTF">2013-08-19T07:56:35Z</dcterms:modified>
  <cp:revision>16</cp:revision>
  <dc:subject/>
  <dc:title>Konserwowanie i przechowywanie zywności</dc:title>
</cp:coreProperties>
</file>